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6439-359D-46E5-871B-EFE959388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44EF-9F9D-42B0-80B4-5B7AEC86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8F5F-A432-45D3-BDB1-15069E14D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586B-D007-4340-8A77-47471CEE7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1C67-01A7-4B28-9BD2-D790C1AD4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5693-E691-4395-8947-8F669820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383B-D3F6-48AE-8F10-0ABAC361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C233-89BF-43BD-8EBB-671E4B45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E59E-363E-4794-9B0A-5EB660FF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062B-62E8-4B50-A6F2-E8D38386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A52F-EDB5-47BB-A2B3-1370CF75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043B-8852-4B1F-8479-29659F83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E718-ACF0-4DBF-AF37-EE4DAFDE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5659-5B13-4415-9396-A92DDEA9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9987-9A74-4164-8D89-C5274AF6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7169-7538-4ADD-9C06-A5B7EABCC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26F7-8CB5-41AA-A0C3-84269A3BF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F6FE-A964-4B8B-B804-7CF83967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BDDC-7184-416C-BD53-E78758AB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36EA-061C-4532-A259-AF7B2DAC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D81B-83E3-4E67-8FD1-E50F1ABE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3586-77DB-4D17-B2B9-51BCCB1E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7B31-04A1-4C2A-8ABF-67B32C28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8AAC-F355-4A9B-8704-12772CBD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97B4-BD15-448C-948D-D053D2F870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5210-06E9-42C2-9044-E32CBCA64F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Chairs meeting WCPF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58920" y="1916280"/>
            <a:ext cx="64008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elc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eaving Gu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wo key issues for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y an informal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tructure of the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at are the outcomes of the meet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Leaving Gua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Unable to deliver on Big eye and yellowfin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xpectation from civil society that we w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 lot of pressure to join the Commission and exploit the resources of the WCPF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Lack of understanding of what it was we were trying to manage in its full sense. PS and 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try something difference to get a result in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The two key deliver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 Conservation measure for big-eye and yellowfin tuna that deals effectively with reducing the catch on these spec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atible measures on the high seas…..what does it me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rticle 10 and discussion on rights of small island stat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the desire to continue to harvest skipjack at current leve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 number of issues people are uncomfortable talking about i.e. how we interpret CM’s, what's a compatible measure, what do we want from the fishery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Structure of the mee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ew agen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Presentations and worksho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dustry presentations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formal meeting no Commission sta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ot looking for agreement or resolution or a draft meas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hair may draft afterwards to begin a formal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Goodw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Outcom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Getting to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a workable resolution early in the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how to manage this fish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what compatible measures actually me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is meeting should develop a greater understanding of the complexity of our challe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 am happy just to have the discussion with you it can only help our understanding and contribute to a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anks for coming - your participation is  genuinely appreci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0:44:00Z</dcterms:created>
  <dc:creator>Computer</dc:creator>
  <dc:description/>
  <dc:language>en-US</dc:language>
  <cp:lastModifiedBy>Computer</cp:lastModifiedBy>
  <dcterms:modified xsi:type="dcterms:W3CDTF">2008-03-31T11:12:53Z</dcterms:modified>
  <cp:revision>5</cp:revision>
  <dc:subject/>
  <dc:title>Chairs meeting WCPFC</dc:title>
</cp:coreProperties>
</file>